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5AE3-43AD-4E4A-9ABA-7BA400478ED4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8204-38BB-4A3A-810C-19638F9C7F8F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26C-A487-49B5-B1A1-044EDD6F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93F0-E886-48A7-8AC0-2A04AFA4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725-BEB1-4AA8-BC25-4AB77BB9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7719-1E1F-4FB6-AB1C-4DF2C705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214B-DB4F-4379-BDAA-FDA9373A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479F-9D16-42E9-A0D1-584733BF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2BAF-7FC5-45BA-93C6-2C915BDA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FD59-44FD-413E-9250-F6B6BA66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85E2-D3C1-4704-A6CC-14CFDF4E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2CC9-AB1E-4C69-B583-7BBDB1DD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D5F9-492C-4461-93EF-4F6D9847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1DA6-B2EE-4303-8DFE-237E0DDC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4459-051F-4D0D-97E7-85B78BEC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3B80-BA1F-4B03-93D2-34F64D99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B0ED-37AC-4753-8D51-C0B00BCC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7299-6E6D-4047-90A5-2367E61A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5BF4-4A78-4F7E-8630-E4455C01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FC8-449C-4830-B554-B9DEFC02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3C05-B175-4EC0-923D-675A640D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E32D-4B87-4584-8805-5E389CFF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6450-4968-493C-A63D-211F98E4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FD39-A1F4-4DE1-8A3C-0DC4EEC5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AFD9-B294-4F43-84F7-BFBD0059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5BE-F72E-4CEB-810C-67653B16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1800"/>
                <a:ext cx="1834200" cy="1667520"/>
                <a:chOff x="852120" y="4051800"/>
                <a:chExt cx="1834200" cy="16675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1880" y="3936600"/>
                  <a:ext cx="477360" cy="12394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58360" y="4978440"/>
                  <a:ext cx="110520" cy="5086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9840" y="5567400"/>
                  <a:ext cx="200880" cy="856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4C64-2C31-4A48-9165-3C0493656755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8640" y="62280"/>
              <a:ext cx="3621600" cy="6130440"/>
              <a:chOff x="5408640" y="62280"/>
              <a:chExt cx="3621600" cy="61304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7400"/>
                <a:ext cx="2116800" cy="23526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57680"/>
                <a:ext cx="906840" cy="84132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9120"/>
                <a:ext cx="439920" cy="39420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640"/>
                <a:ext cx="388800" cy="55044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5280" y="2648880"/>
                <a:ext cx="163440" cy="33084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560" y="1243440"/>
                <a:ext cx="19044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6160"/>
                <a:ext cx="523800" cy="32623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600" y="305640"/>
              <a:ext cx="888120" cy="826200"/>
              <a:chOff x="5646600" y="305640"/>
              <a:chExt cx="888120" cy="8262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560" y="802800"/>
                <a:ext cx="17604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080" y="478800"/>
                <a:ext cx="30132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520" y="403920"/>
                <a:ext cx="31500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40600"/>
              <a:chOff x="954000" y="5282640"/>
              <a:chExt cx="1062360" cy="8406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120" y="5546520"/>
                <a:ext cx="251640" cy="3027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5480" y="5765760"/>
                <a:ext cx="430560" cy="251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720" y="5407200"/>
                <a:ext cx="450000" cy="128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24B4-8DA6-4445-B16F-6C03AFF7BF4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6.xml"/><Relationship Id="rId3" Type="http://schemas.openxmlformats.org/officeDocument/2006/relationships/slide" Target="slide22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7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5.xml"/><Relationship Id="rId15" Type="http://schemas.openxmlformats.org/officeDocument/2006/relationships/slide" Target="slide6.xml"/><Relationship Id="rId16" Type="http://schemas.openxmlformats.org/officeDocument/2006/relationships/slide" Target="slide4.xml"/><Relationship Id="rId17" Type="http://schemas.openxmlformats.org/officeDocument/2006/relationships/slide" Target="slide3.xml"/><Relationship Id="rId18" Type="http://schemas.openxmlformats.org/officeDocument/2006/relationships/slide" Target="slide18.xml"/><Relationship Id="rId19" Type="http://schemas.openxmlformats.org/officeDocument/2006/relationships/slide" Target="slide2.xml"/><Relationship Id="rId20" Type="http://schemas.openxmlformats.org/officeDocument/2006/relationships/slide" Target="slide19.xml"/><Relationship Id="rId21" Type="http://schemas.openxmlformats.org/officeDocument/2006/relationships/slide" Target="slide8.xml"/><Relationship Id="rId22" Type="http://schemas.openxmlformats.org/officeDocument/2006/relationships/slide" Target="slide7.xml"/><Relationship Id="rId23" Type="http://schemas.openxmlformats.org/officeDocument/2006/relationships/slide" Target="slide10.xml"/><Relationship Id="rId24" Type="http://schemas.openxmlformats.org/officeDocument/2006/relationships/slide" Target="slide9.xml"/><Relationship Id="rId25" Type="http://schemas.openxmlformats.org/officeDocument/2006/relationships/slide" Target="slide11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10"/>
          <p:cNvSpPr/>
          <p:nvPr/>
        </p:nvSpPr>
        <p:spPr>
          <a:xfrm>
            <a:off x="179280" y="5661000"/>
            <a:ext cx="2519640" cy="934920"/>
          </a:xfrm>
          <a:custGeom>
            <a:avLst/>
            <a:gdLst>
              <a:gd name="textAreaLeft" fmla="*/ 60480 w 2519640"/>
              <a:gd name="textAreaRight" fmla="*/ 2459160 w 251964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58199" h="21600">
                <a:moveTo>
                  <a:pt x="0" y="0"/>
                </a:moveTo>
                <a:lnTo>
                  <a:pt x="58199" y="0"/>
                </a:lnTo>
                <a:lnTo>
                  <a:pt x="58199" y="21600"/>
                </a:lnTo>
                <a:lnTo>
                  <a:pt x="0" y="21600"/>
                </a:lnTo>
                <a:close/>
              </a:path>
              <a:path fill="lightenLess" w="58199" h="21600">
                <a:moveTo>
                  <a:pt x="0" y="0"/>
                </a:moveTo>
                <a:lnTo>
                  <a:pt x="58199" y="0"/>
                </a:lnTo>
                <a:lnTo>
                  <a:pt x="56799" y="1400"/>
                </a:lnTo>
                <a:lnTo>
                  <a:pt x="1400" y="1400"/>
                </a:lnTo>
                <a:close/>
              </a:path>
              <a:path fill="darken" w="58199" h="21600">
                <a:moveTo>
                  <a:pt x="58199" y="0"/>
                </a:moveTo>
                <a:lnTo>
                  <a:pt x="58199" y="21600"/>
                </a:lnTo>
                <a:lnTo>
                  <a:pt x="56799" y="20200"/>
                </a:lnTo>
                <a:lnTo>
                  <a:pt x="56799" y="1400"/>
                </a:lnTo>
                <a:close/>
              </a:path>
              <a:path fill="darkenLess" w="58199" h="21600">
                <a:moveTo>
                  <a:pt x="58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799" y="20200"/>
                </a:lnTo>
                <a:close/>
              </a:path>
              <a:path fill="lighten" w="58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Здоровое питание</a:t>
            </a:r>
            <a:endParaRPr b="1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179280" y="4437000"/>
            <a:ext cx="2519640" cy="935280"/>
          </a:xfrm>
          <a:custGeom>
            <a:avLst/>
            <a:gdLst>
              <a:gd name="textAreaLeft" fmla="*/ 60480 w 2519640"/>
              <a:gd name="textAreaRight" fmla="*/ 2459160 w 251964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8176" h="21600">
                <a:moveTo>
                  <a:pt x="0" y="0"/>
                </a:moveTo>
                <a:lnTo>
                  <a:pt x="58176" y="0"/>
                </a:lnTo>
                <a:lnTo>
                  <a:pt x="58176" y="21600"/>
                </a:lnTo>
                <a:lnTo>
                  <a:pt x="0" y="21600"/>
                </a:lnTo>
                <a:close/>
              </a:path>
              <a:path fill="lightenLess" w="58176" h="21600">
                <a:moveTo>
                  <a:pt x="0" y="0"/>
                </a:moveTo>
                <a:lnTo>
                  <a:pt x="58176" y="0"/>
                </a:lnTo>
                <a:lnTo>
                  <a:pt x="56776" y="1400"/>
                </a:lnTo>
                <a:lnTo>
                  <a:pt x="1400" y="1400"/>
                </a:lnTo>
                <a:close/>
              </a:path>
              <a:path fill="darken" w="58176" h="21600">
                <a:moveTo>
                  <a:pt x="58176" y="0"/>
                </a:moveTo>
                <a:lnTo>
                  <a:pt x="58176" y="21600"/>
                </a:lnTo>
                <a:lnTo>
                  <a:pt x="56776" y="20200"/>
                </a:lnTo>
                <a:lnTo>
                  <a:pt x="56776" y="1400"/>
                </a:lnTo>
                <a:close/>
              </a:path>
              <a:path fill="darkenLess" w="58176" h="21600">
                <a:moveTo>
                  <a:pt x="58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776" y="20200"/>
                </a:lnTo>
                <a:close/>
              </a:path>
              <a:path fill="lighten" w="58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Вредные привычки</a:t>
            </a:r>
            <a:endParaRPr b="1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179280" y="3213000"/>
            <a:ext cx="2519640" cy="935280"/>
          </a:xfrm>
          <a:custGeom>
            <a:avLst/>
            <a:gdLst>
              <a:gd name="textAreaLeft" fmla="*/ 60480 w 2519640"/>
              <a:gd name="textAreaRight" fmla="*/ 2459160 w 251964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8176" h="21600">
                <a:moveTo>
                  <a:pt x="0" y="0"/>
                </a:moveTo>
                <a:lnTo>
                  <a:pt x="58176" y="0"/>
                </a:lnTo>
                <a:lnTo>
                  <a:pt x="58176" y="21600"/>
                </a:lnTo>
                <a:lnTo>
                  <a:pt x="0" y="21600"/>
                </a:lnTo>
                <a:close/>
              </a:path>
              <a:path fill="lightenLess" w="58176" h="21600">
                <a:moveTo>
                  <a:pt x="0" y="0"/>
                </a:moveTo>
                <a:lnTo>
                  <a:pt x="58176" y="0"/>
                </a:lnTo>
                <a:lnTo>
                  <a:pt x="56776" y="1400"/>
                </a:lnTo>
                <a:lnTo>
                  <a:pt x="1400" y="1400"/>
                </a:lnTo>
                <a:close/>
              </a:path>
              <a:path fill="darken" w="58176" h="21600">
                <a:moveTo>
                  <a:pt x="58176" y="0"/>
                </a:moveTo>
                <a:lnTo>
                  <a:pt x="58176" y="21600"/>
                </a:lnTo>
                <a:lnTo>
                  <a:pt x="56776" y="20200"/>
                </a:lnTo>
                <a:lnTo>
                  <a:pt x="56776" y="1400"/>
                </a:lnTo>
                <a:close/>
              </a:path>
              <a:path fill="darkenLess" w="58176" h="21600">
                <a:moveTo>
                  <a:pt x="58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776" y="20200"/>
                </a:lnTo>
                <a:close/>
              </a:path>
              <a:path fill="lighten" w="58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Спорт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AutoShape 20"/>
          <p:cNvSpPr/>
          <p:nvPr/>
        </p:nvSpPr>
        <p:spPr>
          <a:xfrm>
            <a:off x="2916360" y="4581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AutoShape 22"/>
          <p:cNvSpPr/>
          <p:nvPr/>
        </p:nvSpPr>
        <p:spPr>
          <a:xfrm>
            <a:off x="4211640" y="4581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AutoShape 24"/>
          <p:cNvSpPr/>
          <p:nvPr/>
        </p:nvSpPr>
        <p:spPr>
          <a:xfrm>
            <a:off x="5505480" y="4581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3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26"/>
          <p:cNvSpPr/>
          <p:nvPr/>
        </p:nvSpPr>
        <p:spPr>
          <a:xfrm>
            <a:off x="179280" y="1989000"/>
            <a:ext cx="2521080" cy="935280"/>
          </a:xfrm>
          <a:custGeom>
            <a:avLst/>
            <a:gdLst>
              <a:gd name="textAreaLeft" fmla="*/ 60480 w 2521080"/>
              <a:gd name="textAreaRight" fmla="*/ 2460600 w 252108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8209" h="21600">
                <a:moveTo>
                  <a:pt x="0" y="0"/>
                </a:moveTo>
                <a:lnTo>
                  <a:pt x="58209" y="0"/>
                </a:lnTo>
                <a:lnTo>
                  <a:pt x="58209" y="21600"/>
                </a:lnTo>
                <a:lnTo>
                  <a:pt x="0" y="21600"/>
                </a:lnTo>
                <a:close/>
              </a:path>
              <a:path fill="lightenLess" w="58209" h="21600">
                <a:moveTo>
                  <a:pt x="0" y="0"/>
                </a:moveTo>
                <a:lnTo>
                  <a:pt x="58209" y="0"/>
                </a:lnTo>
                <a:lnTo>
                  <a:pt x="56810" y="1400"/>
                </a:lnTo>
                <a:lnTo>
                  <a:pt x="1400" y="1400"/>
                </a:lnTo>
                <a:close/>
              </a:path>
              <a:path fill="darken" w="58209" h="21600">
                <a:moveTo>
                  <a:pt x="58209" y="0"/>
                </a:moveTo>
                <a:lnTo>
                  <a:pt x="58209" y="21600"/>
                </a:lnTo>
                <a:lnTo>
                  <a:pt x="56810" y="20200"/>
                </a:lnTo>
                <a:lnTo>
                  <a:pt x="56810" y="1400"/>
                </a:lnTo>
                <a:close/>
              </a:path>
              <a:path fill="darkenLess" w="58209" h="21600">
                <a:moveTo>
                  <a:pt x="58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810" y="20200"/>
                </a:lnTo>
                <a:close/>
              </a:path>
              <a:path fill="lighten" w="58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Первая помощь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AutoShape 27"/>
          <p:cNvSpPr/>
          <p:nvPr/>
        </p:nvSpPr>
        <p:spPr>
          <a:xfrm>
            <a:off x="6800760" y="458136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4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AutoShape 28"/>
          <p:cNvSpPr/>
          <p:nvPr/>
        </p:nvSpPr>
        <p:spPr>
          <a:xfrm>
            <a:off x="8024760" y="4581360"/>
            <a:ext cx="1006560" cy="719280"/>
          </a:xfrm>
          <a:custGeom>
            <a:avLst/>
            <a:gdLst>
              <a:gd name="textAreaLeft" fmla="*/ 46440 w 1006560"/>
              <a:gd name="textAreaRight" fmla="*/ 960120 w 10065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23" h="21600">
                <a:moveTo>
                  <a:pt x="0" y="0"/>
                </a:moveTo>
                <a:lnTo>
                  <a:pt x="30223" y="0"/>
                </a:lnTo>
                <a:lnTo>
                  <a:pt x="30223" y="21600"/>
                </a:lnTo>
                <a:lnTo>
                  <a:pt x="0" y="21600"/>
                </a:lnTo>
                <a:close/>
              </a:path>
              <a:path fill="lightenLess" w="30223" h="21600">
                <a:moveTo>
                  <a:pt x="0" y="0"/>
                </a:moveTo>
                <a:lnTo>
                  <a:pt x="30223" y="0"/>
                </a:lnTo>
                <a:lnTo>
                  <a:pt x="28823" y="1400"/>
                </a:lnTo>
                <a:lnTo>
                  <a:pt x="1400" y="1400"/>
                </a:lnTo>
                <a:close/>
              </a:path>
              <a:path fill="darken" w="30223" h="21600">
                <a:moveTo>
                  <a:pt x="30223" y="0"/>
                </a:moveTo>
                <a:lnTo>
                  <a:pt x="30223" y="21600"/>
                </a:lnTo>
                <a:lnTo>
                  <a:pt x="28823" y="20200"/>
                </a:lnTo>
                <a:lnTo>
                  <a:pt x="28823" y="1400"/>
                </a:lnTo>
                <a:close/>
              </a:path>
              <a:path fill="darkenLess" w="30223" h="21600">
                <a:moveTo>
                  <a:pt x="302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3" y="20200"/>
                </a:lnTo>
                <a:close/>
              </a:path>
              <a:path fill="lighten" w="302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5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AutoShape 31"/>
          <p:cNvSpPr/>
          <p:nvPr/>
        </p:nvSpPr>
        <p:spPr>
          <a:xfrm>
            <a:off x="179280" y="765000"/>
            <a:ext cx="2519640" cy="935280"/>
          </a:xfrm>
          <a:custGeom>
            <a:avLst/>
            <a:gdLst>
              <a:gd name="textAreaLeft" fmla="*/ 60480 w 2519640"/>
              <a:gd name="textAreaRight" fmla="*/ 2459160 w 251964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8176" h="21600">
                <a:moveTo>
                  <a:pt x="0" y="0"/>
                </a:moveTo>
                <a:lnTo>
                  <a:pt x="58176" y="0"/>
                </a:lnTo>
                <a:lnTo>
                  <a:pt x="58176" y="21600"/>
                </a:lnTo>
                <a:lnTo>
                  <a:pt x="0" y="21600"/>
                </a:lnTo>
                <a:close/>
              </a:path>
              <a:path fill="lightenLess" w="58176" h="21600">
                <a:moveTo>
                  <a:pt x="0" y="0"/>
                </a:moveTo>
                <a:lnTo>
                  <a:pt x="58176" y="0"/>
                </a:lnTo>
                <a:lnTo>
                  <a:pt x="56776" y="1400"/>
                </a:lnTo>
                <a:lnTo>
                  <a:pt x="1400" y="1400"/>
                </a:lnTo>
                <a:close/>
              </a:path>
              <a:path fill="darken" w="58176" h="21600">
                <a:moveTo>
                  <a:pt x="58176" y="0"/>
                </a:moveTo>
                <a:lnTo>
                  <a:pt x="58176" y="21600"/>
                </a:lnTo>
                <a:lnTo>
                  <a:pt x="56776" y="20200"/>
                </a:lnTo>
                <a:lnTo>
                  <a:pt x="56776" y="1400"/>
                </a:lnTo>
                <a:close/>
              </a:path>
              <a:path fill="darkenLess" w="58176" h="21600">
                <a:moveTo>
                  <a:pt x="58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776" y="20200"/>
                </a:lnTo>
                <a:close/>
              </a:path>
              <a:path fill="lighten" w="58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Здоровье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AutoShape 32"/>
          <p:cNvSpPr/>
          <p:nvPr/>
        </p:nvSpPr>
        <p:spPr>
          <a:xfrm>
            <a:off x="2916360" y="335772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6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AutoShape 33"/>
          <p:cNvSpPr/>
          <p:nvPr/>
        </p:nvSpPr>
        <p:spPr>
          <a:xfrm>
            <a:off x="4211640" y="335772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7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34"/>
          <p:cNvSpPr/>
          <p:nvPr/>
        </p:nvSpPr>
        <p:spPr>
          <a:xfrm>
            <a:off x="5505480" y="3357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8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AutoShape 35"/>
          <p:cNvSpPr/>
          <p:nvPr/>
        </p:nvSpPr>
        <p:spPr>
          <a:xfrm>
            <a:off x="6800760" y="3357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9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AutoShape 36"/>
          <p:cNvSpPr/>
          <p:nvPr/>
        </p:nvSpPr>
        <p:spPr>
          <a:xfrm>
            <a:off x="8024760" y="3357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0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AutoShape 38"/>
          <p:cNvSpPr/>
          <p:nvPr/>
        </p:nvSpPr>
        <p:spPr>
          <a:xfrm>
            <a:off x="291636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1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AutoShape 44"/>
          <p:cNvSpPr/>
          <p:nvPr/>
        </p:nvSpPr>
        <p:spPr>
          <a:xfrm>
            <a:off x="421164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2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AutoShape 45"/>
          <p:cNvSpPr/>
          <p:nvPr/>
        </p:nvSpPr>
        <p:spPr>
          <a:xfrm>
            <a:off x="550548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3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AutoShape 48"/>
          <p:cNvSpPr/>
          <p:nvPr/>
        </p:nvSpPr>
        <p:spPr>
          <a:xfrm>
            <a:off x="2916360" y="90792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4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AutoShape 49"/>
          <p:cNvSpPr/>
          <p:nvPr/>
        </p:nvSpPr>
        <p:spPr>
          <a:xfrm>
            <a:off x="4211640" y="90792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5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AutoShape 50"/>
          <p:cNvSpPr/>
          <p:nvPr/>
        </p:nvSpPr>
        <p:spPr>
          <a:xfrm>
            <a:off x="5505480" y="90792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6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AutoShape 51"/>
          <p:cNvSpPr/>
          <p:nvPr/>
        </p:nvSpPr>
        <p:spPr>
          <a:xfrm>
            <a:off x="6800760" y="90792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7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AutoShape 52"/>
          <p:cNvSpPr/>
          <p:nvPr/>
        </p:nvSpPr>
        <p:spPr>
          <a:xfrm>
            <a:off x="680076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8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AutoShape 53"/>
          <p:cNvSpPr/>
          <p:nvPr/>
        </p:nvSpPr>
        <p:spPr>
          <a:xfrm>
            <a:off x="8024760" y="90792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9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AutoShape 54"/>
          <p:cNvSpPr/>
          <p:nvPr/>
        </p:nvSpPr>
        <p:spPr>
          <a:xfrm>
            <a:off x="802476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0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AutoShape 55"/>
          <p:cNvSpPr/>
          <p:nvPr/>
        </p:nvSpPr>
        <p:spPr>
          <a:xfrm>
            <a:off x="291636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1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AutoShape 56"/>
          <p:cNvSpPr/>
          <p:nvPr/>
        </p:nvSpPr>
        <p:spPr>
          <a:xfrm>
            <a:off x="421164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2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AutoShape 57"/>
          <p:cNvSpPr/>
          <p:nvPr/>
        </p:nvSpPr>
        <p:spPr>
          <a:xfrm>
            <a:off x="550548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3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58"/>
          <p:cNvSpPr/>
          <p:nvPr/>
        </p:nvSpPr>
        <p:spPr>
          <a:xfrm>
            <a:off x="680076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4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AutoShape 59"/>
          <p:cNvSpPr/>
          <p:nvPr/>
        </p:nvSpPr>
        <p:spPr>
          <a:xfrm>
            <a:off x="802476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5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8920" y="765000"/>
            <a:ext cx="7197840" cy="539928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 не регулярном питании выделяется желудочный сок с повышенной кислотностью, что приводит к 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5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ой источник белка рекомендуется употреблять для профилактики инсульта и других сердечнососудистых заболеваний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азовите элементы здорового образа жизн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) двигательный режим, закаливание, личная и общественная гигиен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) рациональное питание, гигиена труда и отдыха, гармонизация психоэмоциональных взаимоотношений в коллектив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) все перечисленно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00000" y="620640"/>
            <a:ext cx="7197840" cy="539928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уточная норма шагов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в день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5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TextBox 9"/>
          <p:cNvSpPr/>
          <p:nvPr/>
        </p:nvSpPr>
        <p:spPr>
          <a:xfrm>
            <a:off x="1403280" y="1916280"/>
            <a:ext cx="59770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1332000" y="2207520"/>
            <a:ext cx="633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е простое и самое эффективное упражнение от которого все органы и ткани организма  лучше снабжаются кислородом и улучшается кровообращение?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родолжить поговорку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здоровом теле, здоровый…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2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Упражнение развивающая силу ру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ля остановки носовог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ровотечения нужно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рокинуть голову вверх и зажать но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клонить голову вперед и прижать ноздр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ложить холод к переносице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ервые признаки инсульта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5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ызов скорой помощи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ационарный телефон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илайн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тив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ТС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егафон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диный номер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2072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787068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971640" y="71928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                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500</a:t>
            </a:r>
            <a:endParaRPr b="1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ЭТОТ русский полководец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 детстве был слабым ребенком, но прекрасно себя закалил. Сначала он парился в бане, а затем выливал на себя 10 ведер холодной воды.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649440"/>
          </a:xfrm>
          <a:custGeom>
            <a:avLst/>
            <a:gdLst>
              <a:gd name="textAreaLeft" fmla="*/ 41760 w 1800000"/>
              <a:gd name="textAreaRight" fmla="*/ 1758240 w 1800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59846" h="21600">
                <a:moveTo>
                  <a:pt x="0" y="0"/>
                </a:moveTo>
                <a:lnTo>
                  <a:pt x="59846" y="0"/>
                </a:lnTo>
                <a:lnTo>
                  <a:pt x="59846" y="21600"/>
                </a:lnTo>
                <a:lnTo>
                  <a:pt x="0" y="21600"/>
                </a:lnTo>
                <a:close/>
              </a:path>
              <a:path fill="lightenLess" w="59846" h="21600">
                <a:moveTo>
                  <a:pt x="0" y="0"/>
                </a:moveTo>
                <a:lnTo>
                  <a:pt x="59846" y="0"/>
                </a:lnTo>
                <a:lnTo>
                  <a:pt x="58446" y="1400"/>
                </a:lnTo>
                <a:lnTo>
                  <a:pt x="1400" y="1400"/>
                </a:lnTo>
                <a:close/>
              </a:path>
              <a:path fill="darken" w="59846" h="21600">
                <a:moveTo>
                  <a:pt x="59846" y="0"/>
                </a:moveTo>
                <a:lnTo>
                  <a:pt x="59846" y="21600"/>
                </a:lnTo>
                <a:lnTo>
                  <a:pt x="58446" y="20200"/>
                </a:lnTo>
                <a:lnTo>
                  <a:pt x="58446" y="1400"/>
                </a:lnTo>
                <a:close/>
              </a:path>
              <a:path fill="darkenLess" w="59846" h="21600">
                <a:moveTo>
                  <a:pt x="59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446" y="20200"/>
                </a:lnTo>
                <a:close/>
              </a:path>
              <a:path fill="lighten" w="59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846" h="21600">
                <a:moveTo>
                  <a:pt x="26424" y="10800"/>
                </a:moveTo>
                <a:lnTo>
                  <a:pt x="36929" y="3794"/>
                </a:lnTo>
                <a:lnTo>
                  <a:pt x="36929" y="17806"/>
                </a:lnTo>
                <a:close/>
              </a:path>
              <a:path fill="darken" w="59846" h="21600">
                <a:moveTo>
                  <a:pt x="22916" y="3794"/>
                </a:moveTo>
                <a:lnTo>
                  <a:pt x="24579" y="3794"/>
                </a:lnTo>
                <a:lnTo>
                  <a:pt x="24579" y="17806"/>
                </a:lnTo>
                <a:lnTo>
                  <a:pt x="229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3366ff"/>
                </a:solidFill>
                <a:latin typeface="Georgia"/>
              </a:rPr>
              <a:t>200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ри сильном ожоге появившиеся пузыри на коже следует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коло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мазать масло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ложить стерильную повязку и обратиться к врач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сли в течение 3 часов пострадавшему окажут помощь, то можно избежать таких серьезных последствий, как паралич и даже смерть. О каком диагнозе идет речь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 вы считаете сколько кусочков сахара в одном стакане кока-кола 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4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7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) 12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AutoShape 4">
            <a:hlinkClick r:id="" action="ppaction://hlinkshowjump?jump=firstslide"/>
          </p:cNvPr>
          <p:cNvSpPr/>
          <p:nvPr/>
        </p:nvSpPr>
        <p:spPr>
          <a:xfrm>
            <a:off x="3708360" y="5013360"/>
            <a:ext cx="1800360" cy="720720"/>
          </a:xfrm>
          <a:custGeom>
            <a:avLst/>
            <a:gdLst>
              <a:gd name="textAreaLeft" fmla="*/ 46440 w 1800360"/>
              <a:gd name="textAreaRight" fmla="*/ 1753920 w 18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41" h="21600">
                <a:moveTo>
                  <a:pt x="0" y="0"/>
                </a:moveTo>
                <a:lnTo>
                  <a:pt x="53941" y="0"/>
                </a:lnTo>
                <a:lnTo>
                  <a:pt x="53941" y="21600"/>
                </a:lnTo>
                <a:lnTo>
                  <a:pt x="0" y="21600"/>
                </a:lnTo>
                <a:close/>
              </a:path>
              <a:path fill="lightenLess" w="53941" h="21600">
                <a:moveTo>
                  <a:pt x="0" y="0"/>
                </a:moveTo>
                <a:lnTo>
                  <a:pt x="53941" y="0"/>
                </a:lnTo>
                <a:lnTo>
                  <a:pt x="52541" y="1400"/>
                </a:lnTo>
                <a:lnTo>
                  <a:pt x="1400" y="1400"/>
                </a:lnTo>
                <a:close/>
              </a:path>
              <a:path fill="darken" w="53941" h="21600">
                <a:moveTo>
                  <a:pt x="53941" y="0"/>
                </a:moveTo>
                <a:lnTo>
                  <a:pt x="53941" y="21600"/>
                </a:lnTo>
                <a:lnTo>
                  <a:pt x="52541" y="20200"/>
                </a:lnTo>
                <a:lnTo>
                  <a:pt x="52541" y="1400"/>
                </a:lnTo>
                <a:close/>
              </a:path>
              <a:path fill="darkenLess" w="53941" h="21600">
                <a:moveTo>
                  <a:pt x="53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1" y="20200"/>
                </a:lnTo>
                <a:close/>
              </a:path>
              <a:path fill="lighten" w="53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1" h="21600">
                <a:moveTo>
                  <a:pt x="23471" y="10800"/>
                </a:moveTo>
                <a:lnTo>
                  <a:pt x="33977" y="3794"/>
                </a:lnTo>
                <a:lnTo>
                  <a:pt x="33977" y="17806"/>
                </a:lnTo>
                <a:close/>
              </a:path>
              <a:path fill="darken" w="53941" h="21600">
                <a:moveTo>
                  <a:pt x="19964" y="3794"/>
                </a:moveTo>
                <a:lnTo>
                  <a:pt x="21626" y="3794"/>
                </a:lnTo>
                <a:lnTo>
                  <a:pt x="21626" y="17806"/>
                </a:lnTo>
                <a:lnTo>
                  <a:pt x="19964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 сколько лет сокращает свою жизнь человек, употребляющий алкоголь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) На 3-6 л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) На 10-20 лет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) На 30-50 л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Эта вредная привычка способствует необратимым нарушениям работы головного мозга и разрушению его клето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5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Жирная и копченая пища вредят работе сердца и сосудов, потому что в них содержатся канцероген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А какая вредная привычка способствует увеличению канцерогенов в организм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00000" y="718920"/>
            <a:ext cx="719784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2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Чем грозит курение молодому растущему организму?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                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Что такое гиподинамия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Чем она опасна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Назовите максимальное время работы за компьютером в день для подростков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14 лет, 15 лет, 16 ле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                      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В ЭТОТ день отмечается Всемирный день здоровья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2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Сколько часов в сутки должен спать человек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взрослый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одросток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ребенок 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200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Этот овощ на 95% состоит из воды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               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Суточная норам овощей и фруктов в граммах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1619280" y="1916280"/>
            <a:ext cx="619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Этот продукт присутствует в нашем рационе  каждый день. Одно из названий этого продукта по-французски означает «палка». Другое образовано от польского bulla — круглая печать Папы Римского для особо секретных документов. 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08:40:23Z</dcterms:created>
  <dc:creator>No name</dc:creator>
  <dc:description/>
  <dc:language>en-US</dc:language>
  <cp:lastModifiedBy>Черемицына Юлия Игоревна</cp:lastModifiedBy>
  <cp:lastPrinted>2017-09-20T07:44:22Z</cp:lastPrinted>
  <dcterms:modified xsi:type="dcterms:W3CDTF">2017-09-20T07:44:49Z</dcterms:modified>
  <cp:revision>58</cp:revision>
  <dc:subject/>
  <dc:title>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